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723-E415-47D1-B9C8-7D30E082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3B29-3FEB-48D7-B93B-F7FD25C9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7647-69E2-4AD7-94D0-63C63DFF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062F-44C0-44B0-9D84-AF3CCEF2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884C-15E5-4798-B77B-311C04B4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D2B-A743-4FA0-AC1D-D70BB2B2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8C77-5A58-4791-90D4-FA9449E0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A37-6C49-4757-8BF8-47E7658C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BAA5-1913-4F88-A9C6-78D97A5E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0067-ACD6-4312-A240-FEE78699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24B9-3663-439D-9ECE-D34883EC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00EE-3D28-469A-8509-5A34F8D0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63D4-86E9-4342-849E-D7C664651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바탕"/>
              </a:rPr>
              <a:t>El futuro y el condi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gram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바탕"/>
              </a:rPr>
              <a:t>Los verbos reg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Las terminaciones: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ser=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-emos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seré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ser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-ás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-éis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serás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seréis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-á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-án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será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serán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바탕"/>
              </a:rPr>
              <a:t>Pr</a:t>
            </a:r>
            <a:r>
              <a:rPr b="1" lang="en-US" sz="4400" spc="-1" strike="noStrike">
                <a:solidFill>
                  <a:srgbClr val="000000"/>
                </a:solidFill>
                <a:latin typeface="바탕"/>
                <a:ea typeface="바탕"/>
              </a:rPr>
              <a:t>á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comprar (yo)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beber (t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ú) 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escuchar (Emma)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aplaudir (nosotros)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conducir (vosotros)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copiar (los alumnos)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visitar (Natalia y yo)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pescar (Rodolfo y Manuel)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바탕"/>
              </a:rPr>
              <a:t>Los verbos irreg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caber: cabr-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poder: podr-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salir: sald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decir: dir-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poner: pondr-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tener: tend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haber: habr-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querer: querr-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valer: vald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hacer: har-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saber: sabr-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venir:vend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-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-ás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-éis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-á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-án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바탕"/>
                <a:ea typeface="바탕"/>
              </a:rPr>
              <a:t>Más prá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hacer (ellos)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salir (yo)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comprar (Tina)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decir (Pablo y Juan)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hablar (t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ú) 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bailar (Ava y yo)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tener (Uds.)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querer (Mart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ín) 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saber (Ud.)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visitar (yo)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바탕"/>
              </a:rPr>
              <a:t>El condi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comp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-ía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  -íamos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      compraría comprarí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-ías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  -íais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    comprarías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 comprarí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-ía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  -ían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바탕"/>
                <a:ea typeface="바탕"/>
              </a:rPr>
              <a:t>     compraría  comprarí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바탕"/>
              </a:rPr>
              <a:t>Pr</a:t>
            </a:r>
            <a:r>
              <a:rPr b="1" lang="en-US" sz="4400" spc="-1" strike="noStrike">
                <a:solidFill>
                  <a:srgbClr val="000000"/>
                </a:solidFill>
                <a:latin typeface="바탕"/>
                <a:ea typeface="바탕"/>
              </a:rPr>
              <a:t>áctica del condi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caber (Carme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hacer (y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venir (t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valer (vosotr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salir (Tom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poner (Pepe y Pame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haber (Ricar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poder (Ud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3:54:24Z</dcterms:created>
  <dc:creator>jbarber</dc:creator>
  <dc:description/>
  <dc:language>en-US</dc:language>
  <cp:lastModifiedBy>jbarber</cp:lastModifiedBy>
  <dcterms:modified xsi:type="dcterms:W3CDTF">2011-04-28T12:50:36Z</dcterms:modified>
  <cp:revision>14</cp:revision>
  <dc:subject/>
  <dc:title>El futuro</dc:title>
</cp:coreProperties>
</file>